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A57-5872-429D-9AA0-A64C4CAA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60B-519B-4BAF-BD35-53565D13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6A9-A32B-45C0-93F8-FDB82899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7FE-DB18-4EBE-814F-2077E748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A3C3-B33A-441F-8E55-6679A863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E982-55B6-471D-ACCE-3347E965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DA98-E3D7-47FE-B9B4-D26C67DD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06CB-2D3B-4E27-80FF-868179D8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2038-3B28-4177-8388-AE17D6AE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8223-769C-423E-9737-54ABB986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3068-3992-4DA4-A9A3-D0A0D171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C8C-2E8A-46AD-8A5D-C280992E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D250-3B60-4560-94D3-88771DD7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C6BD-5B4F-4354-9B5D-4C90A754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E232-43A8-4AA6-A156-F1B586DA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8A7D-2120-4DAE-BB66-0E34244A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B5C6-1F47-4BDA-98AC-00ED53FF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18A-5CCB-4BA4-A0F0-6F29E9DE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E50-FABB-4FF9-9F4F-4BEE13BF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AD8-B48B-4E3B-A9B5-F36338A5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D18-F66B-4E68-8FB4-601AA141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F9E-4CA1-4593-94AF-D020ABA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232-EA88-45B1-B42B-42776AE5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495-08DA-4D48-9854-E5F61A57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0637-9ECC-4684-A724-A60DDD8D3AC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16D4-2C4C-4FF4-8808-0658C5C1B6B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Electrostat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e qu’il faut reten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Le champ électrostat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istributions de char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Volum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urfac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lifor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oi de Coul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opographie, symét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irculation, potentiel électrostat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Énergie potentie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Le théorème de Gau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l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héorème de Gau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pplication au calcul de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ymé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hoix de la surface de Gau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pplication du théorè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l infini, couche plane infinie, sphère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iscontinuité de E à la traversée d’une surface chargé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Dipôle électrostatiq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Moment dipola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pproximation dipola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hamp électrostatique dans l’approximation dipola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ction d’un champ électrostatique sur un dipô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11:34Z</dcterms:created>
  <dc:creator>CHRISTOPHE</dc:creator>
  <dc:description/>
  <dc:language>en-US</dc:language>
  <cp:lastModifiedBy>BOECKEL</cp:lastModifiedBy>
  <dcterms:modified xsi:type="dcterms:W3CDTF">2002-10-23T13:20:02Z</dcterms:modified>
  <cp:revision>41</cp:revision>
  <dc:subject/>
  <dc:title>Interférences lumine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