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3921-37D3-4E03-B771-21AA2BD6EA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=[1 0 0;2 1 0; 1 .5 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[1 2 1 ; 0 -2 -1;0 0 .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*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[1 2 1;2 2 1;1 1 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l u]=lu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000    1.0000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00         0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000         0    1.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000    2.0000    1.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  1.0000    0.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       0    0.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rcice : quelle est la forme de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un sur la diagonale, des zero ailleu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auf sur les lignes et collone des termes à écha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eodore et Lascaux Tome 1 pp 183 4.3.1 lemm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[  3     0     0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   -2     0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   -3     1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   -1    -1     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» A*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495-D6E6-4147-8E9B-831F4E97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F18-2D9C-4B6A-BAA9-9390269A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F33-FBB7-4CF2-AA88-2CDC41A4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9B3-EDD7-4838-B172-4827267C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6AD-D501-4935-BFE7-9FDDDB6B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738-A00F-47C2-A30A-D8D6BEB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027-1ED2-4B26-9B0D-0CC035AF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D34-ECDF-41B2-AF70-587938C7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59B-ECFF-4E51-8F32-23A28C97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1D7-D72C-4905-BB47-97E9A22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D67-7068-4ED1-8667-0D48B18A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54F-47A9-4D93-8763-3B33625C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8780-9432-4FE8-8F72-2520533B3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I 3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éthodes numérique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ur l’ingénieu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40381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lution de systèmes linéaires par des méthodes directes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, L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71800" y="1066680"/>
            <a:ext cx="5943600" cy="5181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6880" y="990720"/>
            <a:ext cx="473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. Triangular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. Résolution du système triang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’algorithme du pivot de Gau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560" y="26668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x 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325680" y="1320840"/>
                <a:ext cx="5361120" cy="485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ur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rPr>
                            <m:lit/>
                            <m:nor/>
                          </m:rPr>
                          <m:t xml:space="preserve">pivot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* stratégie de pivot  *</m:t>
                        </m:r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si </m:t>
                        </m:r>
                        <m:r>
                          <m:rPr>
                            <m:lit/>
                            <m:nor/>
                          </m:rPr>
                          <m:t xml:space="preserve">pivo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lors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pou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ivot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pour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ivot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fait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fait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sinon </m:t>
                        </m:r>
                        <m:r>
                          <m:t xml:space="preserve">problème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i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038480" y="25146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6765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4800" y="1676520"/>
            <a:ext cx="36158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descent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auss :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ésolution d’un système triangulair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835600" y="838080"/>
                <a:ext cx="3060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i</m:t>
                                      </m:r>
                                    </m:sub>
                                  </m:sSub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04920" y="609480"/>
                <a:ext cx="500364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819520" y="2971800"/>
            <a:ext cx="5943600" cy="3809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45080" y="3060720"/>
                <a:ext cx="4216320" cy="36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←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sub>
                            </m:sSub>
                          </m:den>
                        </m:f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ou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1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omme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pour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omme</m:t>
                        </m:r>
                        <m:r>
                          <m:t xml:space="preserve">←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omm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fait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←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mm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8908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391520" y="2666880"/>
                <a:ext cx="9144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omm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rot="16200000">
            <a:off x="7810560" y="1942560"/>
            <a:ext cx="75960" cy="1371600"/>
          </a:xfrm>
          <a:custGeom>
            <a:avLst/>
            <a:gdLst>
              <a:gd name="textAreaLeft" fmla="*/ 48600 w 75960"/>
              <a:gd name="textAreaRight" fmla="*/ 76320 w 759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760" y="3200400"/>
            <a:ext cx="32104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triang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au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438280"/>
            <a:ext cx="419076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U,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descent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triang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U,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0840" y="2209680"/>
            <a:ext cx="32421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aus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mar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640" y="609480"/>
            <a:ext cx="815904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x du piv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minimiser les erreurs d’arron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un pivot est nul, on permute deux lig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tous les pivots restant sont nuls        la matrice est singul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le système d’équations n’admet pas de solution u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minimiser les erreurs d’arrondi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hoisi le plus grand pivot possible (en valeur abso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donc on permute les lignes (voir les colonnes associé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est la stratégie du pivot maximal (partiel (lignes) ou to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nt inverser une mat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c l’algorithme de gauss on peu résoudre direc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éterminant d’une mat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produit des piv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15746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28800" y="5321160"/>
                <a:ext cx="5767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et      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;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et donc :     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51160" y="1143000"/>
                <a:ext cx="2146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93040" y="220968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ne gardant que 4 chiffres significatifs après la virg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523880" y="3124080"/>
                <a:ext cx="5651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vot</m:t>
                    </m:r>
                    <m:r>
                      <m:t xml:space="preserve">: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95480" y="4267080"/>
                <a:ext cx="3606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présentation:   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ddd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848040" y="4800600"/>
                <a:ext cx="4533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919440" y="6095880"/>
            <a:ext cx="751104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se passe t’il si on prend le système à l’env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666880"/>
            <a:ext cx="861048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251160" y="1143000"/>
                <a:ext cx="2146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93040" y="220968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ne gardant que 4 chiffres significatifs après la virg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44480" y="3124080"/>
                <a:ext cx="5410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vot</m:t>
                    </m:r>
                    <m:r>
                      <m:t xml:space="preserve">: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95480" y="4267080"/>
                <a:ext cx="3606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présentation:   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ddd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48040" y="4800600"/>
                <a:ext cx="4533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919440" y="6095880"/>
            <a:ext cx="751104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se passe t’il si on prend le système à l’env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20640" y="3733920"/>
                <a:ext cx="7989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ur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←</m:t>
                                  </m:r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k</m:t>
                                          </m:r>
                                        </m:sub>
                                        <m:sup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)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kk</m:t>
                                          </m:r>
                                        </m:sub>
                                        <m:sup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)</m:t>
                                          </m:r>
                                        </m:sup>
                                      </m:sSubSup>
                                    </m:den>
                                  </m:f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j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pour 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←</m:t>
                                  </m:r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k</m:t>
                                          </m:r>
                                        </m:sub>
                                        <m:sup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)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kk</m:t>
                                          </m:r>
                                        </m:sub>
                                        <m:sup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)</m:t>
                                          </m:r>
                                        </m:sup>
                                      </m:sSubSup>
                                    </m:den>
                                  </m:f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                  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atriciellement :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résentation matricielle de l’élimination de Gau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616120" y="1600200"/>
                <a:ext cx="43308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Ux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n recherche la matrice 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 telle que : </m:t>
                        </m:r>
                      </m:e>
                      <m:e/>
                      <m:e/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rPr>
                            <m:lit/>
                            <m:nor/>
                          </m:rPr>
                          <m:t xml:space="preserve">   et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52160" y="30481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que étape de l’algorith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s cas du second membr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14400" y="2070000"/>
                <a:ext cx="4406760" cy="410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/>
                      <m:e/>
                      <m:e>
                        <m:r>
                          <m:t xml:space="preserve">⋮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>
                        <m:r>
                          <m:t xml:space="preserve">⋮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>
                        <m:r>
                          <m:t xml:space="preserve">⋮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atriciellement : 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952880" y="1905120"/>
                <a:ext cx="39243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;</m:t>
                        </m:r>
                      </m:e>
                      <m:e/>
                      <m:e/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572000" y="1981080"/>
            <a:ext cx="45720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s cas du second membr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070000"/>
                <a:ext cx="4406760" cy="410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/>
                      <m:e/>
                      <m:e>
                        <m:r>
                          <m:t xml:space="preserve">⋮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>
                        <m:r>
                          <m:t xml:space="preserve">⋮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>
                        <m:r>
                          <m:t xml:space="preserve">⋮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atriciellement : 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952880" y="1905120"/>
                <a:ext cx="39243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;</m:t>
                        </m:r>
                      </m:e>
                      <m:e/>
                      <m:e/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oris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371600" y="838080"/>
                <a:ext cx="6745320" cy="27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riciellement :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;          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36560" y="3809880"/>
                <a:ext cx="6516720" cy="23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A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r>
                          <m:t xml:space="preserve">⇔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en posant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on a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3333cc"/>
                </a:solidFill>
                <a:latin typeface="Times New Roman"/>
              </a:rPr>
              <a:t>Ax=b</a:t>
            </a: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0" lang="fr-FR" sz="3600" spc="-1" strike="noStrike">
                <a:solidFill>
                  <a:srgbClr val="3333cc"/>
                </a:solidFill>
                <a:latin typeface="Times New Roman"/>
              </a:rPr>
              <a:t>un cas simple</a:t>
            </a:r>
            <a:br>
              <a:rPr sz="3600"/>
            </a:br>
            <a:r>
              <a:rPr b="0" lang="fr-FR" sz="3600" spc="-1" strike="noStrike">
                <a:solidFill>
                  <a:srgbClr val="3333cc"/>
                </a:solidFill>
                <a:latin typeface="Times New Roman"/>
              </a:rPr>
              <a:t>A est une matrice diagona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324480" y="2682720"/>
                <a:ext cx="2438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88880" y="1863720"/>
                <a:ext cx="499104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886200" y="5105520"/>
            <a:ext cx="2895480" cy="1447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145040" y="5130720"/>
                <a:ext cx="23493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ou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←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908000" y="4800600"/>
            <a:ext cx="31752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diago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6120" y="1371600"/>
            <a:ext cx="1334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7840" y="2092320"/>
            <a:ext cx="11653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080" y="4267080"/>
            <a:ext cx="15890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orith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U : motiv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5080" y="1981080"/>
            <a:ext cx="342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onnaît la matri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ne connaît pas enc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« prépar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»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U : princip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27160" y="1219320"/>
            <a:ext cx="68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est si facile le résoudre un système « triangulaire »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71800" y="1905120"/>
                <a:ext cx="3213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y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914400" y="4952880"/>
            <a:ext cx="1066680" cy="1295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133720" y="3505320"/>
            <a:ext cx="1218960" cy="121896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4952880"/>
            <a:ext cx="1218960" cy="12956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33520" y="522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4008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4205160"/>
            <a:ext cx="500868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construire Let 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idé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prendre l’étape de triangular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a méthode de Ga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 Gauss à LU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62120" y="1752480"/>
                <a:ext cx="63388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  et     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23760" y="914400"/>
            <a:ext cx="58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présentons une étape de la triangular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la multiplication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ar une matric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14400" y="2819520"/>
                <a:ext cx="22986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←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k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kk</m:t>
                                          </m:r>
                                        </m:sub>
                                      </m:sSub>
                                    </m:den>
                                  </m:f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  <m:r>
                                    <m:t xml:space="preserve">←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k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kk</m:t>
                                          </m:r>
                                        </m:sub>
                                      </m:sSub>
                                    </m:den>
                                  </m:f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j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2209680"/>
                <a:ext cx="4317840" cy="31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/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ℓ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ℓ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76520" y="5308560"/>
                <a:ext cx="50162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onc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357200" y="4308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U : la décomposi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4640" y="1066680"/>
            <a:ext cx="76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atrices élémentair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t invers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leurs inverses sont les matric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angulaires inférie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es que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01720" y="2057400"/>
                <a:ext cx="40132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auf   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     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auf   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ℓ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n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943600" y="2514600"/>
                <a:ext cx="2400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52280" y="3505320"/>
                <a:ext cx="431820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ℓ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ℓ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838760" y="3594240"/>
                <a:ext cx="393696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ℓ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ℓ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6095880"/>
                <a:ext cx="2425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883760" y="6095880"/>
            <a:ext cx="241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’est la matric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’algorithme de décomposi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447920"/>
            <a:ext cx="5943600" cy="5181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563920" y="1917720"/>
                <a:ext cx="5360760" cy="47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ur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rPr>
                            <m:lit/>
                            <m:nor/>
                          </m:rPr>
                          <m:t xml:space="preserve">pivot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* stratégie de pivot  *</m:t>
                        </m:r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si </m:t>
                        </m:r>
                        <m:r>
                          <m:rPr>
                            <m:lit/>
                            <m:nor/>
                          </m:rPr>
                          <m:t xml:space="preserve">pivo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lors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pou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←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ivot</m:t>
                            </m:r>
                          </m:den>
                        </m:f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pour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fait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fait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sinon </m:t>
                        </m:r>
                        <m:r>
                          <m:t xml:space="preserve">problème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i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89400" y="1295280"/>
            <a:ext cx="38948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,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écompos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14600" y="2895480"/>
                <a:ext cx="4572000" cy="14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580560" y="19051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rez q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U : l’algorithm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2438280"/>
            <a:ext cx="4190760" cy="342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,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decompose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triang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,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triang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U,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80840" y="2209680"/>
            <a:ext cx="29023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LU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LU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66760" y="5842080"/>
                <a:ext cx="74437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ivo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52280" y="914400"/>
            <a:ext cx="8839440" cy="3200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400" y="977760"/>
            <a:ext cx="8613000" cy="31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éorè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 cours de l’élimination de Gauss sur la matrice 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pivots sont non nu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l existe une matrice triangulaire inférie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une matrice triangulaire supérie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elle que 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= 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plus on impose 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voir les éléments diagona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gaux à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factorisation es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051440" y="4191120"/>
                <a:ext cx="5016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60360" y="4156200"/>
            <a:ext cx="46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émonstr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lé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cité : par l’absu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7280" y="5715000"/>
            <a:ext cx="34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arq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termin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2280" y="914400"/>
            <a:ext cx="8839440" cy="3200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1295280"/>
            <a:ext cx="350496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LU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400" y="977760"/>
            <a:ext cx="8613000" cy="31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éorè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 cours de l’élimination de Gauss sur la matrice 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pivots sont non nu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l existe une matrice triangulaire inférie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une matrice triangulaire supérie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elle que 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= 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plus on impose 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voir les éléments diagona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gaux à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factorisation es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657600" y="4343400"/>
                <a:ext cx="142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61440" y="415620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e exemple trivi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5040" y="5334120"/>
            <a:ext cx="5901840" cy="13737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éorganisation du système linéair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utation des lignes et des colon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HERCHE DU MEILLEUR PIV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 factorisation </a:t>
            </a:r>
            <a:br>
              <a:rPr sz="4400"/>
            </a:b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A=LU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76520"/>
            <a:ext cx="830592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400" y="1739880"/>
            <a:ext cx="813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éfin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matrice A, est non singul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l existe une matrice de permu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e que les pivots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t non nuls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L chapitr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57200" y="5105520"/>
                <a:ext cx="33656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y</m:t>
                                  </m:r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y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257800" y="4419720"/>
            <a:ext cx="3733920" cy="2286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,U,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decompose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triang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,P*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triang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U,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9120" y="4181400"/>
            <a:ext cx="29023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LU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8440" y="3241800"/>
            <a:ext cx="4318560" cy="825480"/>
            <a:chOff x="208440" y="3241800"/>
            <a:chExt cx="4318560" cy="825480"/>
          </a:xfrm>
        </p:grpSpPr>
        <p:sp>
          <p:nvSpPr>
            <p:cNvPr id="212" name=""/>
            <p:cNvSpPr/>
            <p:nvPr/>
          </p:nvSpPr>
          <p:spPr>
            <a:xfrm>
              <a:off x="208440" y="3241800"/>
              <a:ext cx="431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i 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  est égal à zéro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n échange (permute) deux lig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674640" y="3276720"/>
                  <a:ext cx="3920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4" name=""/>
          <p:cNvSpPr/>
          <p:nvPr/>
        </p:nvSpPr>
        <p:spPr>
          <a:xfrm>
            <a:off x="3810600" y="6324480"/>
            <a:ext cx="13086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tlab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est de forme triangulair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943600" y="838080"/>
                <a:ext cx="2844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i</m:t>
                                      </m:r>
                                    </m:sub>
                                  </m:sSub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79360" y="609480"/>
                <a:ext cx="505476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819520" y="2971800"/>
            <a:ext cx="5943600" cy="3809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745080" y="3060720"/>
                <a:ext cx="4216320" cy="36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ou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n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omme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pour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jusqu'à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omme</m:t>
                        </m:r>
                        <m:r>
                          <m:t xml:space="preserve">←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omm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fait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←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mm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8908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391520" y="2666880"/>
                <a:ext cx="9144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omm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 rot="16200000">
            <a:off x="7810560" y="1942560"/>
            <a:ext cx="75960" cy="1371600"/>
          </a:xfrm>
          <a:custGeom>
            <a:avLst/>
            <a:gdLst>
              <a:gd name="textAreaLeft" fmla="*/ 48600 w 75960"/>
              <a:gd name="textAreaRight" fmla="*/ 76320 w 759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0760" y="3200400"/>
            <a:ext cx="32104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triang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1905120"/>
            <a:ext cx="8458200" cy="4952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-76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=LU : étap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23960" y="838080"/>
                <a:ext cx="6148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ant chaque étape on permute la matrice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/>
                      <m:e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avec  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et 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880" y="1816200"/>
            <a:ext cx="8647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éorè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matri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st la matrice de permutation des colonn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963720" y="2209680"/>
                <a:ext cx="7951680" cy="431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</m:t>
                            </m:r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;  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   ou encore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avec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a</m:t>
                              </m:r>
                            </m:e>
                            <m:e>
                              <m:eqArr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</m:eqAr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b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sSup>
                      <m:e/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a</m:t>
                              </m:r>
                            </m:e>
                            <m:e/>
                            <m:e/>
                            <m:e/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200400" y="590220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73560" y="559764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987800"/>
            <a:ext cx="289584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92680" y="47242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637480" y="1930320"/>
                <a:ext cx="430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LU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676520" y="1371600"/>
                <a:ext cx="5868720" cy="436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ant chaque étape on permute la matrice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it pour tout l'algorithme : </m:t>
                        </m:r>
                      </m:e>
                      <m:e/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⋯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⋯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  <m:e/>
                      <m:e/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⋯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⋯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⋯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⋯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⋯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⋯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n posant 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⋯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⋯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'ou: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P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et    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932440" y="4842000"/>
            <a:ext cx="180828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 expliqu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723920" y="4648320"/>
            <a:ext cx="114300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89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on a pas besoin de permutatio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faire plus « efficac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vot partie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utation de col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vot total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utation de ligne et de colonn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lus ch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éconditionnement ou Equilibrage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’un système liné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ifier le système d’équations pour diminuer les risques d’err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mélioration ité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oix du pivo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124080" y="5638680"/>
                <a:ext cx="3200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;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e>
                    </m:eqArr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 alors   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r>
                      <m:t xml:space="preserve">≤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cc"/>
                </a:solidFill>
                <a:latin typeface="Times New Roman"/>
              </a:rPr>
              <a:t>Commentaires sur le programme « </a:t>
            </a:r>
            <a:r>
              <a:rPr b="0" i="1" lang="fr-FR" sz="4000" spc="-1" strike="noStrike">
                <a:solidFill>
                  <a:srgbClr val="3333cc"/>
                </a:solidFill>
                <a:latin typeface="Times New Roman"/>
              </a:rPr>
              <a:t>diago</a:t>
            </a:r>
            <a:r>
              <a:rPr b="0" lang="fr-FR" sz="4000" spc="-1" strike="noStrike">
                <a:solidFill>
                  <a:srgbClr val="3333cc"/>
                </a:solidFill>
                <a:latin typeface="Times New Roman"/>
              </a:rPr>
              <a:t> »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termina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se passe t’il s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t triangulaire supérieu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ce 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89280" y="2184480"/>
                <a:ext cx="1765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565360" y="4403880"/>
            <a:ext cx="612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ls sont les âges d’Alice, de Louis, Sacha et Gaspa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chant que trois fois la somme des âges des garçons est égale à la somme des âges des filles, que  l’âge d’Alice moins trois fois la somme des âges de Louis et de Sacha est égal à moins neuf, que trois fois l’âge de Louis est égal à vingt sept, et que l’âge de Louis moins deux fois  l’âge de Sacha est égal à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vot de Gaus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4 principes fondamentaux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7320" y="1647720"/>
            <a:ext cx="815292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ne change pas la solution lorsque l’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ermute 2 lig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ermute 2 col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divise par un même terme non nul les éléments d’une l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joute ou retranche à une ligne un certain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ois une autre l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0200" y="5184720"/>
            <a:ext cx="823356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atég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Transformer le système liné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un système équivalent … facile à résou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01840" y="617220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ulair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vot de Gauss : un exe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327480" y="1981080"/>
                <a:ext cx="42926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8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523880" y="3657600"/>
            <a:ext cx="131760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vot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62320" y="2286000"/>
            <a:ext cx="114300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4600" y="2438280"/>
            <a:ext cx="563868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vot de Gauss : un exe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327480" y="1981080"/>
                <a:ext cx="42926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8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39400" y="3657600"/>
            <a:ext cx="2778840" cy="510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= (2)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pivot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447920" y="2590560"/>
            <a:ext cx="99036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62320" y="4724280"/>
            <a:ext cx="563868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514600"/>
            <a:ext cx="1523880" cy="312408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438280"/>
            <a:ext cx="563868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vot de Gauss : un exe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327480" y="1981080"/>
                <a:ext cx="42926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8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384720" y="4343400"/>
                <a:ext cx="42922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8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39400" y="3657600"/>
            <a:ext cx="2778840" cy="510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= (2)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pivot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362320" y="5181480"/>
            <a:ext cx="563868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1523880" cy="358128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438280"/>
            <a:ext cx="563868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vot de Gauss : un exe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27480" y="1981080"/>
                <a:ext cx="42926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8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87800" y="4343400"/>
                <a:ext cx="468612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4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17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239400" y="3657600"/>
            <a:ext cx="2778840" cy="510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= (3)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pivot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324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première variable à été éliminée de toutes les équations sauf 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08:45:08Z</dcterms:created>
  <dc:creator>Stéphane Canu</dc:creator>
  <dc:description/>
  <dc:language>en-US</dc:language>
  <cp:lastModifiedBy>Stéphane Canu</cp:lastModifiedBy>
  <dcterms:modified xsi:type="dcterms:W3CDTF">2000-10-24T08:35:52Z</dcterms:modified>
  <cp:revision>176</cp:revision>
  <dc:subject/>
  <dc:title>Aucun titre de diapositive</dc:title>
</cp:coreProperties>
</file>